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878-A961-4BA7-B7FC-75BD446E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BFE-5EA1-4AE5-B40E-86F409ED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7A32E-B442-4D3D-A9A1-31E51D46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C3E64-F7AC-4423-81E3-FD30C50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2009B-6EDB-40C3-A286-822817F2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38F79-6DBF-4173-879C-6C24AFD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38B96-E39D-4B2D-909A-913741D6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54368-9B72-49AB-86D5-7CEF55A5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9F80C-C82A-4048-A100-8F2496F7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FD01F-6F45-45B9-850B-43AF7701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AA1BC-1B2C-48CD-87E9-3F3FD41D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8E7F6-2DA1-419D-97BD-35AE09F2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E70-4659-43AE-AECC-50D2E4C0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05B18-5C6A-41EB-8A19-4FB14CCC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8D5D-AD23-4B78-9C39-64911F64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66DC6-58CB-47BF-90DE-FED4FF96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B580A-7F15-4C1E-9E1D-E754017E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AB5B5-5486-4F5D-9B14-FEADCD42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A9CC1-7E24-4862-AAEA-E925A5E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E7E0D-5F29-4691-B284-830407D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D79D5-D9EE-4FC3-8809-7A5A822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CCE7F-8941-4065-BFF9-11B2989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D2065-D3D0-4EAE-A454-29B585E5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A69-9ED3-43F4-B531-4A952004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E15F8-7757-46EB-9F00-47FF9EFA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31276-0474-47E4-BE53-A4CC6984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CD149-1873-49D2-B0B3-9673673C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3D5E9-B815-4452-A7F6-A31B294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15412-E1EF-4BF8-AE79-53485906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7EE14-28D0-420B-A75F-2CE4A07B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9F6CA-8FD1-4E29-B788-E5801123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A2E0D-B4A2-451E-A5C1-7A8E22B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60557-ACD8-472E-9D94-ED969D7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49DEE-AEB4-4366-BC4D-1C9697C6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8E3-93F8-4FF9-B851-8F626CFC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66E95-8215-4B20-9DC6-571B8E58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7DEBC-9A00-43F8-9C29-9B45B0F1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E28A0-8204-426F-85B3-EC8E809C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8D8DD-6BD8-40FF-854F-E5FDF29C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4010C-4851-40B2-B6E4-FA004868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BB0BD-CBEA-427A-8D09-09286939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DE2F1-F22A-4FE2-BF9C-CC3DFF5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2891D-5DA9-4FBB-8C76-7C8E782D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83F85-E47D-4DE8-BCF9-2DDB60A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09B29-A0FD-426D-93D5-E461A71E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E960-8466-4CEF-9048-31EFDB2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5AA0B-BCC5-43D3-A3A9-EA3B527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1CC60-A7F8-42AE-900A-B27EFEEC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FA044-93A4-472E-B23E-A92C3DE9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56A35-8BFE-44BE-BE41-22E9A931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EE3D9-2A36-4052-8A65-72667900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FF152-D7F5-4B46-9CB8-63105864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A63E6-7B90-445E-83E2-16163ED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686B9-94C6-467B-92BF-F6F77B1E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46EA9-C88A-41CD-94FF-762C0BF3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7EFF4-377C-4DDA-BF1F-314E7D05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F123-2C38-48B2-8022-C0771CC4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8115B-91D6-4182-82D4-76672911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CE4B2-D68A-469E-B255-A24B488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A1302-6595-4CED-8C07-65360843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EE877-7B8B-4319-8D41-0EB07D72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F1363-3C9C-44C8-BBA2-01FBD623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8B838-C8F6-41E9-ADF4-4244CB21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8D74B-5D66-4F21-87E2-5FC3BBF6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9E572-D967-465D-82DE-0EB231FA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FA273-3D70-46EA-9FE0-99C34B5C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49386-5031-4D24-BB0B-5DAD19B0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6D80-1B9F-4793-8675-ED0FB6B0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CC4DD-0B30-406C-9931-629AD8CF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732D4-86FB-45B6-A39C-3D8297D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26FA4-9DF8-462E-9524-14F1FCCF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AFEC4-0089-49E3-B64F-24AC5A1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43418-C035-4ACA-93AF-8648287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F10DF-3D3B-4BB1-A012-0A14FB0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80F80-EA14-4ABA-B314-C797EFCB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62C69-79CA-4572-B55D-26D2DD31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0CF29-2029-4230-A19C-C57FF342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D3834-0032-4AAC-BAE9-C733713B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8D89-3F94-4066-8449-9130B446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BC08B-406B-46B7-9132-2017572C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7FC6C-369D-4AB6-9540-A36882B8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E491A-E565-4F69-8ECA-78413808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3DA1C-E4DF-4AC8-A725-9DEA1218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978E1-B9D2-4F4C-AED1-B1B5FE59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D2C2F-9F38-42AD-9F07-5D8A3A5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E0E46-3FA7-448D-B743-5685862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E5A4D-00C4-4913-A368-B3BEA64E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66F3B-1EAD-48D8-90DC-B4FC3F69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06289-CCFC-49B9-8662-71F92F15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9C9-9878-4382-979D-02C75396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C3AD5-1295-4539-9330-8805C674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932A5-E74D-4641-9431-3906EE8F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11EFC-DF27-4634-BA85-B00C066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73A86-E0CA-4682-B147-AEF17D3B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E89C7-217A-4737-97C7-0EC67927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6B78B-8CC8-4BF2-8605-BA179EFD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D411B-1E2A-4A80-996F-44DB12BC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753A1-2526-47EB-A34C-66293F3D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B7517-D077-41FD-90A2-B467F07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A441A-329E-4643-ABD3-F07D93B1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F3EA-DC83-476E-9471-7753417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0E3BD-D3E5-4355-828B-91606F3A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4E6C2-2081-498D-BCC5-1619AA2E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51171-6A59-4AD2-BC28-EDE94489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AF243-7718-46FA-BD9E-05D94A7E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A8292-A704-4922-A556-71ECD7E4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AAE67-FE0D-4C42-B348-302886DB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9E06A-C373-4692-9C98-14610B9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AA856-7C97-4643-9000-3093108C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507AE-BE5B-4180-BF8E-E458EA6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64939-5656-435A-940C-830B1AC9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539-A708-443F-96B7-883B464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608B-6C8A-438F-A02D-F713DB6F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7A44F-8A07-4369-B0E1-0345E48E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87745-73A8-4E09-8F84-D6B1375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D3590-DE08-41B9-91B8-DB72D972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3EC7A-1262-4BF7-991D-4D84F6AA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959F3-BFC6-4025-A0F6-88209257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2A296-5DD7-492E-BC24-318D4F6F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F0715-EF33-4F60-818A-F7AC78C9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E444A-32A0-4EA5-849F-904A58C7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AD071-7C1A-4004-A5D0-8456C16C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E9CCF-C184-4710-B110-DD5FC5C4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4DAA-75F5-4137-AC99-C6C8565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6738D-C95F-479C-BF42-05F221AD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42DED-8F4B-4E56-9CA0-6278E53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28AA1-DF98-4CE3-B8DC-AB8930D4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4E891-1951-43CF-9BEF-586EB64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EECC3-8984-46F4-A3B1-6EEF8AB7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CF1FD-52DB-4776-A959-EE73A304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D08147-7FA9-4151-AF9A-66B7990B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6B9EA7-84EB-48D9-8637-93977242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BEE72-501E-4B9C-AE0F-5CB6C991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B70DC-39B2-4C5C-AAFB-64BAFE43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F6E-C9EA-4E02-A0AE-2F753D8D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09B7E-C51A-4A4D-9E8E-54E585FA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7B29F-E45F-4FA3-8B6F-8C63CBD9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666CA-3EC3-4742-B085-D8411354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EC2FFB-56F1-4802-BEBD-9FBE27C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D231DF-6BB1-410D-A632-C04B806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7A722-D5E0-4AF3-8F55-5FAFDDE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8AE2F-0CBA-408F-B554-B9B424F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1D7354-A8A7-486F-B50F-4CF09E0C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66FBC-75C0-4C6F-8697-95479177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1CD170-F300-437D-93CC-B95BD631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9052-1520-420E-B24E-95A2F63F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2E6FB-C1F3-4311-ADF3-B15D430E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7E329-95E3-4255-9117-DDFDC393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217EA-3242-4053-A9C1-9F5602D4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11E64-E7C8-4180-9629-5C7359AC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450631-FDF1-4403-9D78-86698F48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4B5592-921A-44BD-89F0-5755F35D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B62DE-7DEE-4790-81A8-2B07454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39836D-9FCC-4970-97C0-895A06BA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8A88F-A702-4277-9074-50475B2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14709-CF73-40A4-9900-2B025EE5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C3D6-F12F-4F86-86C8-F339704B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7148C-B430-4250-A4E1-856D40FC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CEE21-EF1E-4C46-89D4-01949DFA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13612-65C2-4D8E-A02A-B8817278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32DC9A-DC12-422A-BC36-E7D4906E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D1F2F-7666-4449-9294-77738A05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863D3-CEF4-4491-8552-1E7BF9EF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9E5A09-3C1D-48D9-A89C-23945384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272CEB-039D-40BE-858D-A6CE1D8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9C5A17-AD3F-42D7-8803-6C17EE9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16B8F-29A3-43A6-B261-894C983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234D-FE79-452F-BC26-2882D52B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F4A6A-DFB7-4CBE-B4E7-B9C1BB63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DFB0F-49E6-48E0-8B54-9FAAF5E3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ABFBF-F45C-4F59-B204-28F67632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4B73-C9C0-458C-A337-4FE6DFAD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0BF1-EB99-419B-B490-B2239FE6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590B-2482-42F7-AB5D-E6A4F697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98AB-A774-4507-AF8C-F0F92074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EBE-4907-4286-B1EA-5E9413B9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2BC4-502D-4F07-BD75-45DE69F9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9D18-55FD-425E-924E-D7F3B248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7424-0F57-43BA-9EC3-E3A555C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85D3-ADC0-4368-9A25-FE21550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A4972-E0E0-4F89-929A-FA5B0A9B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DF51-F91D-49ED-8D58-9D9C2BF9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0F88-2A39-43BC-BA9B-506D6E6B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2384-08BA-461F-8EE3-31A06B62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CDF6-19C7-4FB6-BE5A-6E9CBA60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83B4-EDFA-4636-A954-668A1747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0DB-A9A2-4266-9330-0CE5D8D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0EF8-85C6-469B-8754-9ADE7B5A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91D0-8EBF-42E6-96F7-7BFD2A93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CFA2-C5E9-4202-9CE7-F0306C75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F0A8-DAD9-4E9C-90A1-CEDEB092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82D4-A5BA-48A9-A4A8-5CA592A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A6D55-936C-4AA5-91B4-87C45EBE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7EE5-2ECB-4E44-ABAA-74F8F46D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DC4D-0CAC-43F2-9212-870EFE7C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5C46-D37E-4AA3-9CFB-30FDDE0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0B90-18CC-4439-B3EA-2B5AA3D2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1F4-1D60-44AB-9591-3D5C2928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0543-42CA-4F3E-B74C-B25D5551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F470-D763-4418-A041-251D90D0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90AFB-56FA-47E8-942C-95480CEB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78B80-50CB-4E35-8738-F501EB6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C9042-86BB-4C1F-A741-63C1FFB0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E3E5-1F7C-4396-AA72-78A213A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DE54-47C7-471C-9B07-4BE18B6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A9E27-AC67-4A8F-8D40-06EF0F2D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0771-3BF4-4763-A18C-A32CEF24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E54A-BE66-472E-83D0-6545D862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C56-5147-4B81-A2F5-CA117492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1A0A-98AE-45E4-B064-FE01FD6D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0F581-764C-4EB3-A55A-E9FBFD3B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9C53C-B33F-4A89-B743-05C145B5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19B7-DAFE-4E1A-A05C-18FF60F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E1E3-5C7B-4114-B184-5BBC42A6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B8EE-B0D4-47FC-98EE-ADDFA91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DE92-54BD-4CEF-AC98-69BA3F75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75E87-8459-4482-9B43-E6DF03A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29329-03B0-4D34-A6E9-CB04B09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8296-4E6F-49EE-BD4F-5C3A37E7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7E2-0511-466B-B9B4-02D36B0A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6CB0C-21A6-4B1C-9379-1CCA121C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EAC9-3BA3-4745-AF3B-9FAAFB5B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85154-9B6A-4FDB-97BB-F76047CF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238CA-8961-46C1-86DC-0E4BCF32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9F37-12EE-4A26-81AF-9C96B31E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21CCE-F019-4EC9-BE99-264835ED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72C21-C601-479A-832D-E29D010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93CA1-DC8C-40D6-B359-C959B8E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5C89E-DCD0-4276-A902-CFEC51D9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63012-7604-4444-B6D7-403C259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31E-8FC6-4946-A9AD-0AEB654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510A6-8801-4244-9700-0C835BF7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7DB2-D406-4F2A-8027-14294243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7ECF-C1E4-46A9-A64B-37E84ED5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DE37-E821-401E-A2A6-32B3DC11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B922C-3379-4897-A74A-72F0501E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5039F-302A-4A6B-A43C-90718A77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2F7C6-EA2E-41EB-AE51-A7F3EDC5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D06F-DB33-4C7A-A418-7969F48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78F6A-1D66-4F64-B5BE-D8417A5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25A27-7CAD-483B-8AE9-F0C8BA95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B06-6D25-4AC6-8EB6-80709811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0DC2B-69F6-4C45-B9DB-8ECFCDC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04F94-BF30-4F1C-A13C-AA9DA40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FEFFD-2108-4C22-BFF5-AE3F8D2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8B2DF-8061-4286-8137-E8325BA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3EED-E3FC-468A-BC17-67693465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14490-BD43-4B8D-9672-7E609197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C829D-06F2-46D7-80FE-980DFF2A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E9BA4-9445-44B9-B965-049B4C2B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5D95B-D1B4-488C-A0E3-DAE14BC4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F1E6-A312-415B-8402-3EC4927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183F-A59E-457A-86B0-D00CFF72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DCE1-3BA8-45C9-AA3A-93A070CBE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E71C-4874-44FF-9B59-AD3F8443A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8530-17CD-42AE-8227-29E3AD7F1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2593-5108-421B-B710-07698F55BE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211-719B-4A97-9DFA-85DB7F5E6F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5FC5-1B47-4C48-92B0-5B26C6CC73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664A-094A-4D58-A140-BEFD8B859C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3D39-D70E-4344-B3F2-DCD20C5F47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9A8D-2A3D-4EDE-81DF-0CBE01154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A772-A4A5-479A-B961-6206AE1C6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89B2-07FE-455E-9990-1E9BA7AA4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F11D-0CAB-4B62-AA0F-3AB73C7E29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60F-FADA-4620-BB3E-713A2DE18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84B0-7648-4870-8300-8BACE68219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FA1-1124-434B-AD6B-AB3182903B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952-B111-494E-927E-A4A9196FB6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AF13-7707-4DB9-9346-09B3983EE8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6AE6-7296-4538-BB8E-AFD66FBDBF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D37-1C5A-4C95-B7A4-DE40FF4026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5338-B8D1-4CFF-84F7-2816CB7EA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36A3-A7D1-4C7A-8929-AD793E907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1DE3-C03A-4044-A418-813038B35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BF2B-993B-4F01-8693-4DD612740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0E90-CEDA-4713-9973-9044A45E0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C160-45A8-4BF9-8F11-7686CBDCD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F5E7-3E44-4649-9520-39AB6CE90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5397-7893-4079-B40F-58E09E7B1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A60C-1877-4DF2-868E-9C5F98EBA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0812-05F1-4DDA-A0AD-AEF41AA8F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C4AE-FC1C-4CC8-B5D5-446F4DA3E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8B4-2C8D-41E8-9267-2FCF096F1F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1927-FBDD-42BF-83FA-482DDB739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B700-2864-4098-8D7F-20715BE542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6A31-CBD3-4E85-BD12-36A2CED8A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E23A-4B45-4B8D-AC9F-228ED786E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FAB-C6DF-4821-8699-2B83D39B6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206C-6438-444C-B126-112F2DB590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B491-841B-401E-8164-38C407AAAE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3E8A-DFC8-4BC8-AF4C-027B8A15F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8929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01160" cy="61437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35728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000080" y="414324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29600" cy="577224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928800" y="8571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71476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4643280"/>
            <a:ext cx="3571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490680" y="1090440"/>
            <a:ext cx="8162640" cy="467712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7143840" y="1571760"/>
            <a:ext cx="100008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3857760" y="207180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2428920" y="3500280"/>
            <a:ext cx="142884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7143840" y="392904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7286760" y="4857840"/>
            <a:ext cx="10713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47840" y="1104840"/>
            <a:ext cx="8248320" cy="464832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1428840" y="207180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3429000" y="207180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4929120" y="20718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5"/>
          <p:cNvSpPr/>
          <p:nvPr/>
        </p:nvSpPr>
        <p:spPr>
          <a:xfrm>
            <a:off x="3665520" y="348624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6"/>
          <p:cNvSpPr/>
          <p:nvPr/>
        </p:nvSpPr>
        <p:spPr>
          <a:xfrm>
            <a:off x="5429160" y="3429000"/>
            <a:ext cx="1500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7"/>
          <p:cNvSpPr/>
          <p:nvPr/>
        </p:nvSpPr>
        <p:spPr>
          <a:xfrm>
            <a:off x="2214720" y="3929040"/>
            <a:ext cx="17143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"/>
          <p:cNvSpPr/>
          <p:nvPr/>
        </p:nvSpPr>
        <p:spPr>
          <a:xfrm>
            <a:off x="3500280" y="4857840"/>
            <a:ext cx="9288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5775480" y="4821120"/>
            <a:ext cx="121428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0"/>
          <p:cNvSpPr/>
          <p:nvPr/>
        </p:nvSpPr>
        <p:spPr>
          <a:xfrm>
            <a:off x="7750080" y="4857840"/>
            <a:ext cx="465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8229600" cy="281952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3357720" y="2500200"/>
            <a:ext cx="8571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4786200" y="2500200"/>
            <a:ext cx="7146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928800" y="3000240"/>
            <a:ext cx="121428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2571840" y="3000240"/>
            <a:ext cx="128592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2286000" y="3932280"/>
            <a:ext cx="2060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7"/>
          <p:cNvSpPr/>
          <p:nvPr/>
        </p:nvSpPr>
        <p:spPr>
          <a:xfrm>
            <a:off x="1109520" y="4381560"/>
            <a:ext cx="1390680" cy="372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8"/>
          <p:cNvSpPr/>
          <p:nvPr/>
        </p:nvSpPr>
        <p:spPr>
          <a:xfrm>
            <a:off x="3078000" y="4378320"/>
            <a:ext cx="85752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9"/>
          <p:cNvSpPr/>
          <p:nvPr/>
        </p:nvSpPr>
        <p:spPr>
          <a:xfrm>
            <a:off x="4429080" y="435780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471600" y="1000080"/>
            <a:ext cx="8200800" cy="485784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3000240" y="2571840"/>
            <a:ext cx="357480" cy="399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1785960" y="35719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3583080" y="450864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4572000" y="5415120"/>
            <a:ext cx="3571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861840" y="828720"/>
            <a:ext cx="7420320" cy="5200560"/>
          </a:xfrm>
          <a:prstGeom prst="rect">
            <a:avLst/>
          </a:prstGeom>
          <a:ln w="0">
            <a:noFill/>
          </a:ln>
        </p:spPr>
      </p:pic>
      <p:sp>
        <p:nvSpPr>
          <p:cNvPr id="1061" name="矩形 2"/>
          <p:cNvSpPr/>
          <p:nvPr/>
        </p:nvSpPr>
        <p:spPr>
          <a:xfrm>
            <a:off x="4786200" y="1714680"/>
            <a:ext cx="357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9:4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